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35600" cy="986940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9400"/>
              <a:gd name="textAreaBottom" fmla="*/ 9869040 h 9869400"/>
            </a:gdLst>
            <a:ahLst/>
            <a:rect l="textAreaLeft" t="textAreaTop" r="textAreaRight" b="textAreaBottom"/>
            <a:pathLst>
              <a:path w="21600" h="31649">
                <a:moveTo>
                  <a:pt x="5" y="0"/>
                </a:moveTo>
                <a:arcTo wR="5" hR="5" stAng="16200000" swAng="-5400000"/>
                <a:lnTo>
                  <a:pt x="0" y="31644"/>
                </a:lnTo>
                <a:arcTo wR="5" hR="5" stAng="10800000" swAng="-5400000"/>
                <a:lnTo>
                  <a:pt x="21595" y="31649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2"/>
          <p:cNvSpPr/>
          <p:nvPr/>
        </p:nvSpPr>
        <p:spPr>
          <a:xfrm>
            <a:off x="0" y="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dt" idx="3"/>
          </p:nvPr>
        </p:nvSpPr>
        <p:spPr>
          <a:xfrm>
            <a:off x="3814560" y="-36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280" rIns="8928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0" y="9374040"/>
            <a:ext cx="29210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3814560" y="9373680"/>
            <a:ext cx="2919240" cy="4921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AE38397A-7C00-4888-9579-D785A909571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0C651F2D-31BE-41D9-90FF-51EF2A05FC4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D4134C3C-0858-43E9-8472-F424675E210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270BE02F-6648-4EF0-B00C-7E063B3B933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CDE9C10C-9C3F-46E5-BD89-8101FA4D8C2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48B96C21-0141-4F09-BE1E-B7C9BABA472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14920" y="9374040"/>
            <a:ext cx="2919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6480"/>
                <a:tab algn="l" pos="1814400"/>
                <a:tab algn="l" pos="2722680"/>
                <a:tab algn="l" pos="3630600"/>
                <a:tab algn="l" pos="4538520"/>
                <a:tab algn="l" pos="5446800"/>
                <a:tab algn="l" pos="6354720"/>
                <a:tab algn="l" pos="7262640"/>
                <a:tab algn="l" pos="8170920"/>
                <a:tab algn="l" pos="9078840"/>
                <a:tab algn="l" pos="9987120"/>
                <a:tab algn="l" pos="10333080"/>
                <a:tab algn="l" pos="10782360"/>
              </a:tabLst>
            </a:pPr>
            <a:fld id="{20A69E6D-BCBF-4A0C-B698-F673592DA61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18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7560"/>
            <a:ext cx="53910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ED35C-2096-4BFD-9FDF-B753FDEE82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7859A-4B1A-4C0C-86A7-CC4359330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6E540-52F2-4C2B-A4C8-78E0E176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5EB75-1F78-4502-8DC0-C17F32B302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DE194-5ECD-4E95-93F5-CCFA545D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B42E8-6733-4C0E-9FB0-95B865CB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BF9B9-460C-44E2-884C-BBF318ED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0DDEC-0E9B-4958-9ED3-A4EA16D2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DEDDB-595D-4926-AECF-5D8B608F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222F0-2561-4341-B713-A9316492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6411D-268C-488E-9589-793214BC8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DB6E2-FB38-46E1-8828-0DABD147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9.08.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A8EFD1-A6BA-44FD-8FA3-F917C1D56146}" type="slidenum"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623880" y="1244520"/>
            <a:ext cx="8229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лан мероприятий по реализации проекта «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S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ударственном бюджетном учреждении здравоохран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БУЗ Кузнецкая межрайонная больница» поликлиника №4 на 1 квартал 2019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276120" y="2093760"/>
          <a:ext cx="8528040" cy="3800520"/>
        </p:xfrm>
        <a:graphic>
          <a:graphicData uri="http://schemas.openxmlformats.org/drawingml/2006/table">
            <a:tbl>
              <a:tblPr/>
              <a:tblGrid>
                <a:gridCol w="293760"/>
                <a:gridCol w="2244600"/>
                <a:gridCol w="489240"/>
                <a:gridCol w="377640"/>
                <a:gridCol w="392040"/>
                <a:gridCol w="384480"/>
                <a:gridCol w="434880"/>
                <a:gridCol w="35568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  <a:gridCol w="355680"/>
                <a:gridCol w="355680"/>
                <a:gridCol w="355320"/>
              </a:tblGrid>
              <a:tr h="63180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9.01.19-29.03.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9.01.19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.01.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8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здать в поликлинике №4 государственном бюджетном учреждении здравоохранения  Кузнецкая межрайонная больница рабочую группу по реализации пилотного проекта «Бережливая поликлиника» на территории поликлиники№4 (далее – рабочая группа), определить лидеров проектов по направлениям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работать и представить на обсуждение рабочей группы макет планировки процедурного кабинета поликлиники №4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уществить сбор информации о ключевых проблемах в организации работы поликлиники: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eb4e3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ронометраж временных затрат пациента при обращении в процедурный кабинет. 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2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ронометраж временных затрат пациента при обращении в процедурный кабинет для забора крови..</a:t>
                      </a:r>
                      <a:endParaRPr b="0" lang="en-US" sz="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461"/>
          <p:cNvSpPr/>
          <p:nvPr/>
        </p:nvSpPr>
        <p:spPr>
          <a:xfrm>
            <a:off x="569880" y="165240"/>
            <a:ext cx="3429000" cy="10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462"/>
          <p:cNvSpPr/>
          <p:nvPr/>
        </p:nvSpPr>
        <p:spPr>
          <a:xfrm>
            <a:off x="5519880" y="176040"/>
            <a:ext cx="312408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26880" y="544680"/>
          <a:ext cx="8433000" cy="3376440"/>
        </p:xfrm>
        <a:graphic>
          <a:graphicData uri="http://schemas.openxmlformats.org/drawingml/2006/table">
            <a:tbl>
              <a:tblPr/>
              <a:tblGrid>
                <a:gridCol w="411480"/>
                <a:gridCol w="2100240"/>
                <a:gridCol w="482400"/>
                <a:gridCol w="372960"/>
                <a:gridCol w="387360"/>
                <a:gridCol w="381240"/>
                <a:gridCol w="425520"/>
                <a:gridCol w="357120"/>
                <a:gridCol w="350640"/>
                <a:gridCol w="352440"/>
                <a:gridCol w="351000"/>
                <a:gridCol w="352440"/>
                <a:gridCol w="350640"/>
                <a:gridCol w="352440"/>
                <a:gridCol w="352440"/>
                <a:gridCol w="351000"/>
                <a:gridCol w="352440"/>
                <a:gridCol w="349200"/>
              </a:tblGrid>
              <a:tr h="41904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4.02.-06.02.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4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5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3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анкетирования сотрудников поликлиники для выявления ключевых проблем организации рабочего процесс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6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.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анкетирования  об удовлетворенности пациентов поликлиники оказанной медицинской помощью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1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ценка уровня вовлеченности сотрудников поликлиники до запуска проекта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68760" rIns="68760" tIns="612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12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тавление Тактического плана реализации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326880" y="544680"/>
          <a:ext cx="8285400" cy="249696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1904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6.02-07.02.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6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7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ализ и обсуждение полученных результатов на совещаниях  рабочей групп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ведение совещаний  рабочей группы по выполнению поставленных зада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оставление ориентировочной сметы расходов на реализацию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26880" y="544680"/>
          <a:ext cx="8285400" cy="320328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633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8.02.-12.02.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4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рганизация  работы процедурного кабинета в новых условиях :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перепланировка регистратуры поликлиники № 4;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 новая организация пространст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деление  дополнительного  пространства (площадей) для ожидания пациентов, обеспечение посадочными  местами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обретение  медицинской мебели в процедурный кабинет (манипуляционные столики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26880" y="544680"/>
          <a:ext cx="8285400" cy="204120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65040"/>
                <a:gridCol w="3808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4633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02.-20.02.19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2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2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7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беспечение информационного  сопровождения(единый образец стенда расположения кабинетов, новый образец расписания по профилям медицинской помощи, единый образец стенда с нормативно-правовыми документами, стенд по независимой оценке качеств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26880" y="544680"/>
          <a:ext cx="8285400" cy="2396880"/>
        </p:xfrm>
        <a:graphic>
          <a:graphicData uri="http://schemas.openxmlformats.org/drawingml/2006/table">
            <a:tbl>
              <a:tblPr/>
              <a:tblGrid>
                <a:gridCol w="403200"/>
                <a:gridCol w="2062440"/>
                <a:gridCol w="476280"/>
                <a:gridCol w="350640"/>
                <a:gridCol w="395280"/>
                <a:gridCol w="372960"/>
                <a:gridCol w="424080"/>
                <a:gridCol w="345960"/>
                <a:gridCol w="344520"/>
                <a:gridCol w="345960"/>
                <a:gridCol w="346320"/>
                <a:gridCol w="344520"/>
                <a:gridCol w="345960"/>
                <a:gridCol w="344520"/>
                <a:gridCol w="345960"/>
                <a:gridCol w="344520"/>
                <a:gridCol w="345960"/>
                <a:gridCol w="346320"/>
              </a:tblGrid>
              <a:tr h="531720"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№№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/п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МЕНОВАНИЕ МЕРОПРИЯТИЯ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.03.-29.03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 г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9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.03.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12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ый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чет по реализации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2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ставление результатов проект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ctr">
                      <a:noAutofit/>
                    </a:bodyPr>
                    <a:p>
                      <a:pPr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30960" rIns="3096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30960" marR="309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8" name="Text Box 185"/>
          <p:cNvSpPr/>
          <p:nvPr/>
        </p:nvSpPr>
        <p:spPr>
          <a:xfrm>
            <a:off x="581040" y="5900760"/>
            <a:ext cx="80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проектного офиса           зав.  поликлиникой № 4                          Бондаренко С.Ю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09:01:08Z</dcterms:created>
  <dc:creator>Румянцева Луиза Марсовна</dc:creator>
  <dc:description/>
  <dc:language>en-US</dc:language>
  <cp:lastModifiedBy>pol4-stm</cp:lastModifiedBy>
  <cp:lastPrinted>2018-01-18T10:20:20Z</cp:lastPrinted>
  <dcterms:modified xsi:type="dcterms:W3CDTF">2019-02-04T12:15:47Z</dcterms:modified>
  <cp:revision>344</cp:revision>
  <dc:subject/>
  <dc:title>Слайд 1</dc:title>
</cp:coreProperties>
</file>